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ct" ContentType="image/x-pict"/>
  <Override PartName="/ppt/media/image8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F61-032A-4B40-9916-9CF906A7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56F-BDC0-4A83-8494-0789F63F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58F-F985-441F-AF00-70940E38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FC0-35C0-47A3-9DE0-54944899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FA6-7896-44C8-A68A-BFF18C4B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E5B-B114-4153-9BCF-EDA189F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DA0-3803-4184-9160-C8AC7272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837-4ECA-428C-8F29-B9E5604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414-D71B-429D-BE0E-0A89F864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D44-D0A8-4202-BDF4-B55E2EA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741-BF51-4CF0-B1DB-B0B4B7F0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821-6181-4CA2-87F4-3CDA5F8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5EA5-CCF8-466A-9FD0-75CF2A6D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7 - 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&amp;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files.fieldofscience.com/2011_01_01_archiv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084400"/>
            <a:ext cx="77724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ulation of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pecies has an optimal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t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is regulated by exte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th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intain constant body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exter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totherms &amp; Endother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faculty.uca.edu/johnc/animalstructfu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2160" y="1981080"/>
            <a:ext cx="42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schoolworkhelper.net/2010/07/thermoregulatio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art of the brain)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ordinating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rmoreg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taken from:  http://zaborina.i.ph/photo/108/1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38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11200" y="609480"/>
            <a:ext cx="632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ian Diving Re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ammal is submerged in cold water, the hypothalamus sig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rate to 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o be diverted to the brain and other vital organs to conserve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reventing 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ian Diving Reflex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elticseakayaking.com/articles/mammal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2548080"/>
            <a:ext cx="77724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ody systems are constantly adjusting to changes in the external environment to maintain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sis is an active process, sometim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Human Bod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liesyoungwomenbelieve.com/index.php?id=3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 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ugar level:  0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H:  7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38240" y="1981080"/>
            <a:ext cx="310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tic Control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revisescience.co.uk/2010/schools/ilford/abhomeostasis.a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coordinating centre to counteract any detected changes in the sam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a small change from becoming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freewebs.com/sandra02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92200" y="1981080"/>
            <a:ext cx="43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ademic.kellogg.edu/herbrandsonc/bio201_mckinley/endocrine%20system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77724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ingrimayne.com/econ/AllocatingRationing/PriceAndFeedback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coordinating centre to amplify any detected changes in the sam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a small change to become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4648320"/>
            <a:ext cx="1320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pespmc1.vub.ac.be/feedback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963880"/>
            <a:ext cx="7772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0:22Z</dcterms:created>
  <dc:creator>rubina khan</dc:creator>
  <dc:description/>
  <dc:language>en-US</dc:language>
  <cp:lastModifiedBy>rubina khan</cp:lastModifiedBy>
  <dcterms:modified xsi:type="dcterms:W3CDTF">2011-12-06T16:42:19Z</dcterms:modified>
  <cp:revision>69</cp:revision>
  <dc:subject/>
  <dc:title>Chapter 7 - Maintaining an Internal Balance</dc:title>
</cp:coreProperties>
</file>